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rgie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rgies are exaggerated and sometimes harmful reactions to external substances, called allergens. Allergy may result from exposure to such common allergens as plant pollens from grasses, trees, or ragweed; animal danders, which are tiny scales shed from the skin and hair of cats and other furred animals; insects, such as house dust mites, bees, and wasps; and drugs, such as penicillin. The most common food allergies are caused by eggs, milk, peanuts, shellfish, wheat, and chocolate. Researchers estimate that at least 24 million people in the United States suffer from allergies – about 19 percent of the population. In an allergic reaction, the immune system mistakenly interprets a harmless substance as harmful on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rg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oglobul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am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phylactic sho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m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zem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ll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llergy result fr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n an allergic rea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mast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oes an allergic reaction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symptoms of hay fe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naphylactic sho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difference between food allergy and food intoler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genetic predisposition to allerg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technique is used for testing and diagnosing specific allerg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synonyms for each of the following word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fu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aken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h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m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verbs which are related to the following noun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am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rite the following sentences in the Passive Voice:</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llergist must perform all necessary allergy skin te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tists included the additional chemical in order to have better resul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allergic reaction, the immune system mistakenly interprets a harmless substance as a harmful 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often confuse food allergy, which is an immune response, with food intoler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ubstances will create various allergy sympto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atients are taking medicines to control different allergic rea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rs have identified a definite genetic predisposition to allerg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fontScale="96000"/>
          </a:bodyPr>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ко сте икада имали напад кијања услед чишћења куће, вероватно сте за то кривили сву ту узвитлану прашину. Али стручњак за алергије или имунолог не би се сложили са вама. Они су открили да кијање не проузрокује прашина. То је реакција вашег тела и ослобођених хемикалија, које изазивају кијање. Тачно је да су неки људи осетљивији од других на прашину, паучину и споре буђи које лебде у ваздуху. Али то само значи да њихова тела претерано реагују на напаснике који слободно лебде. Алергије су абнормалне реакције на свакодневне супстанце. Проузроковане су претераном реакцијом имунолошког система на хистамин, хемикалију које тело испушта да би се борило против микробних напасника. Али у алергијама, напасници нису вируси или бактерије, већ нешкодљиве супстанце: полен, прашина, споре буђи или нешкодљиви микроскопски инсекти звани грињ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10-02T16:10:08Z</dcterms:modified>
  <cp:revision>12</cp:revision>
  <dc:subject/>
  <dc:title>Slide 1</dc:title>
</cp:coreProperties>
</file>